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89AE0-8917-4F71-9C36-3AF31B2EF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9EC9-8B92-4A54-B0CB-50405288C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935C709-8F03-4179-9ABA-7AD8998DCB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7BD721B-1F11-41A1-94D5-FA368FBBDD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D2E9A47-5CAF-4BDC-A9B7-5DC7C10B6E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093451-782B-4B9E-AFC1-6355FFCAFA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B5E1EDA-3824-49D1-963F-CDD92A5922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3E13AB-9AE5-4D04-B397-49120CB753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6DE5869-3684-4C45-A88D-F432A9BA1E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11D6AA4-9793-4CB3-8BBF-12D8047529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F07EEAA-E862-481F-A023-1EAF7CF6A15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51AA01A-656A-428A-9F3C-09E3B98742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33628-6BD7-458A-A7E3-688933AAB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9DFA579-4777-4509-98E2-BFFAB178A7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BF37F79-EE7F-49F3-B284-6D4F7F1D61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14B57F-419A-4E2C-9A78-CB4B9DA16D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B595BD3-DA1C-41B0-99E3-54A5D9954F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72A6B9-84F3-4C02-8288-E75336E4F7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812CE73-5445-4E7E-8CD1-1FF2CECBB1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FD97D3-75BD-4288-8266-C39CE1674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B1E1AC-744A-4DF7-9E1B-8B8A74A2E9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2C82E2-ED92-41BA-96A1-95C1DE5B75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C4012E-D8AE-4B6F-9E07-C80EF3BDC9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972EE-6B1D-4E1E-A8D0-256DABB8A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7EA2069-C54B-46AF-925B-B79F0D045A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31B432-8D83-47C8-AB23-447ECA15C3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7D7F3F-2A6E-4871-A0CD-F460404DB8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009E56-1D3D-41EB-886D-06AE36176A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E29117-2F98-408C-B708-82C064F40E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F53F54-AF92-492B-B74F-0FF8B8F3D4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7EE273-FDA1-466F-8796-E66107C6F6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332440-48F3-40CA-B69B-296FF1C5A5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334E76-92C8-4137-B151-F1A985D521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F7FAF6-B174-4DA2-81B2-A2D66B3C18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1ABCD-BD99-48E7-B5FE-B369B0E89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FD92CD-8837-45C1-8284-32BE80CCE2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300304-EE7E-4485-A120-0A514B13D3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D84FDE-FE11-4E59-B15D-9A6A90A193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F14E130-8797-4717-AEA0-5C65C58735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A615C12-A202-4165-8695-B7670D2D0E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1435883-3BA5-4E05-8BE7-29DA2B294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D590FC2-537E-4F2D-9680-1D205229B8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1C59B6B-2209-41BE-9817-FA1D22D3B3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1417A45-CB21-4A60-BAC4-AA9FD344D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BDE109-02C3-4642-98F2-34698DC01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53F1F-A41B-4AEB-B121-96D22D6D8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8CB96A-DA54-4868-9DC1-A50C094C63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DEE8C2-C040-41D4-A007-221D93928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5A551FA-AD67-4FD5-88C2-5056D71546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F8C0CE7-D076-43F4-9B27-EF93EC92E2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0029F8-D573-462D-9912-519D408FBC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74E86-A168-459B-8C05-031219124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2572-68FD-4ADF-BD91-478370A43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5437E-5D70-49CE-BA59-6122147CD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B2E79-82D6-4E2E-8EF7-D4B442F41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3B53B-96C2-422D-BF9D-D7967F6AF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4CDA-68DC-4198-887A-CD3E70338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C841F-9CCF-431F-9BA4-263B204E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BE90D-9BC9-4A4B-9888-0B56C2B41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7A494-C43A-445A-89B1-EA2D0D761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081D2-17F1-4000-B9E0-D204B766E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D9803-6422-4A2D-AF82-184D081C2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DB113-E56E-4B9D-968D-666E4F9E0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7A2AB-C971-4BC0-891E-1FD55A9C5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28862-435E-4295-AEBE-F0DE78E5E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D4D2D-03F8-40C9-95F5-FE791CD3B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55E8B-BCEE-4A34-9E3D-DE029FC00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030C6-C063-4B80-98A6-A73DF48E3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D1AC1-6C88-4427-8488-9C5F7D3DDC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B47D1-5AC7-4C2F-BAAE-DCB2FBB68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66277-F495-4ABA-AD6E-4A2F0C19E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CE711-FD3C-4EEF-8434-80A3377D7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A2540-7C2B-43BE-B66A-5045D0C92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2403C1-3515-4610-B769-717EAE511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DA83A2-1329-468E-9077-D23163154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B83A243-8214-4BA5-ADA3-D00EF9DA564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4C6D16-B1B0-4595-A0B3-2853C3B96E1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2E14865-6F5D-48E7-9B34-8A23873E46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9BE2-8731-486B-8BB3-BB0E0FD6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9027584-A714-44F9-93A6-227F2B06A6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D74C8F-BB00-4319-882D-5C66EBFF46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B7806F-6CF7-4B56-B700-BE3BF32913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C83901B-340B-4116-B477-9D50968346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9A0F19-EF31-448B-9F80-F97452C609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92903C2-1716-4895-930E-46A8923EE9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F4C9F8-DA92-40AC-B5A8-C93E41F061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6FA8A54-B85C-4CEA-9FFC-10403546090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0A38DE9-65EF-4E1A-8351-BD25E29241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78858E-B0C5-4755-8CA2-9DB6C393E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42A08-5429-46DB-979A-C7B3EE9F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838E0-CAA2-48EA-A6FA-63DADB97A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FA91C-DCB5-4040-87F4-3AA636841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1CB0A-1882-47D7-975E-4163D7786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27881-89A4-4D90-A26B-CDC8FDD62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CE11F-C8EE-4342-8E02-A51A79C027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518F2-9110-4696-8D68-2992DB597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984CA-9E9B-4A99-99E8-132366FB0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07E2F-F095-4EE5-8B93-8464C1843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3AF238-EF76-4C62-B8D6-F8570E14C6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9E0DD-3573-4675-B4E7-3E7BCD833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F585-7031-4F09-A908-A62ACDD5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E3F99-3882-42BD-89EB-1DDE466E9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56013B-D887-482E-9F9F-E0DBB23920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39B93-7EB9-4AA3-A0AB-C0E7AF0B4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F8997-9AEF-4877-8CDB-1FDFA64C23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085DD-C7C7-42F4-BF67-A05814955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7933F-6075-48EB-90EC-613DFA9F18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04A86-EFA4-4172-B06C-563A68FBE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A44AC-3A74-4116-9C91-FBB687911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6B4F5-E75B-40F7-B354-50F330E2F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79112-345D-4880-B433-4B9A8BB7C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BCA8-0FC8-40E7-8FB1-FAD914F54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7D6BD-3A10-43A3-981F-FFF24B5D1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C53694-D2A6-40D0-9F09-63443A7D2B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DC54D2-0D7B-4F16-80C3-4E094ABA97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C0D8BA-FD5D-4900-A6A9-8DA67D4EFD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06F1D-5210-41B3-B7E4-960E88BC3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4D3DB-6FBD-4E52-BEFD-DE1E5FBD7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519C7-2CD4-4437-9C21-48751D952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FFFFB-B3FC-461A-8BB2-7A6B41CDE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1D5EA-163E-4D02-9D88-26311B6076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C6E84-603F-4D3C-9BF3-EE945AF72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C3E0-E0B3-4A73-8F39-5517619E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74687-0AB7-4F28-B4E0-4C53A7796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37661-F6D2-4ADF-80EA-DEA6EFAC3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D2307-1753-4DDB-BA32-6202F7847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D2307-E237-4E38-819B-D4CE7ED6C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2143E6-086E-48A8-A35B-A2ACBC12B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F003E2-E6DB-48D1-BEAD-BD7B3D6B38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D431C-651F-4D13-A79E-2C1BB14CB2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70E02-249B-4255-8081-93132B47C4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3818D-3249-44A8-99D9-8C883BBFB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F74A6D-0EED-46D1-8181-883D1CBCB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34D76-0130-41B3-B8DE-93D62923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960AD-8726-42A6-91A4-F42B1F1B31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C9D8F-6251-4A04-98E3-043D78B2C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C193B0-DB28-4CB0-A1C5-063FD6789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11841-827D-41B1-AF1F-7EA5808B4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2129D-67FD-444A-A25C-29244B1B8F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8FEC66-9123-4A8F-8A7F-3FF8967922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5892C3-66A8-457E-90BA-951397B279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AC85300-3A07-4A4E-B921-1E973315D4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1E191FC-C9DD-4E20-9DDE-C1F9D0CF154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E5B1C5D-7801-4F8F-96A0-4A357703C5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A833-41B1-42E2-8494-0B30FBC9190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027B-3EDF-4AA8-95C9-41BE3492133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FCA8-B62F-4D20-AE2B-F00AD88DAE5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1BF2-CFEC-4516-9136-21BF6458888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EA99-5E7D-4A4D-8A2A-7E5D5A1F45D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18BD-1E17-4479-B367-FE5A78D833B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96B4-F492-49AA-9E87-9D4382698B0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F471-6B78-4FB4-B8CE-81EA01D350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EFF3-CA30-4870-96D8-64A84E90E5D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616B-D793-46FF-A808-139C7376EE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7FF4-FD9C-4DCB-98B2-E6B784DBF7C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0DD5-7CF7-4FFA-A0E7-6638E87E8B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OVEMBER 27, 2007</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VICTORIA BRADFOR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EVEN GA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RICHARD SMILLI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KATIE TREUHAFT</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Upper Limb Case 3</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roduction</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20 year old male soccer player arrives at the ER using his right hand to hold his left arm close to his bod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said that during practice, he collided with another player and he fell to the ground on his left should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hysical Examination</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lood Pressure: 120/7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lse: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hythm: Regul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mperature: 98.3˚F</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piratory Rate: 1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ight: 6’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ight: 190 lb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ENT Examination: Norm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ther systems: Norm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sculoskeletal Examination</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pection, movement, and palpation of the upper and lower limbs were normal except for the following finding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tient’s left arm hung limply at his side.  The forearm was pronated.</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scle testing revealed a loss of flexion, abduction, and lateral rotation of the arm at the shoulder, and a weakness in flexion of the forearm at the elbow and of supination.</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addition, there was a loss of sensation along the lateral side of the ar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muscles are affected that would produce these symptoms?</a:t>
            </a:r>
            <a:endParaRPr b="0" lang="en-US" sz="27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ss of flexion of arm: </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ltoid</a:t>
            </a:r>
            <a:endParaRPr b="0" lang="en-US" sz="20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ss of flexion of forearm: </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iceps brachii, coracobrachialis, brachialis</a:t>
            </a:r>
            <a:endParaRPr b="0" lang="en-US" sz="20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ss of abduction of arm: </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praspinatus and deltoid</a:t>
            </a:r>
            <a:endParaRPr b="0" lang="en-US" sz="20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ss of lateral rotation of arm: </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fraspinatus, teres minor, posterior portion of deltoid</a:t>
            </a:r>
            <a:endParaRPr b="0" lang="en-US" sz="20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ss of supination of forearm: </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iceps brachii, brachioradialis, supinator</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st the innervation for the affected muscle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eltoid</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xillary n.</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iceps brachii, coracobrachialis, brachialis</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Musculocutaneous n.</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upraspinatus, infraspinatus</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uprascapular n.</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eres minor</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xillary n.</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rachioradialis, supinator</a:t>
            </a:r>
            <a:endParaRPr b="0" lang="en-US" sz="2500" spc="-1" strike="noStrike">
              <a:solidFill>
                <a:srgbClr val="000000"/>
              </a:solidFill>
              <a:latin typeface="Georgia"/>
            </a:endParaRPr>
          </a:p>
          <a:p>
            <a:pPr lvl="1" marL="547560" indent="-272880">
              <a:lnSpc>
                <a:spcPct val="9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Radial n.</a:t>
            </a:r>
            <a:endParaRPr b="0" lang="en-US" sz="2000" spc="-1" strike="noStrike">
              <a:solidFill>
                <a:srgbClr val="646b86"/>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lvl="1" marL="547560" indent="-272880">
              <a:lnSpc>
                <a:spcPct val="90000"/>
              </a:lnSpc>
              <a:spcBef>
                <a:spcPts val="624"/>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nerve is responsible for sensory innervation of the territory described in the ca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utaneous branch of the axillary nerv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usculocutaneous nerve as it becomes the lateral cutaneous nerve of the forearm</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620" name="Picture 2" descr=""/>
          <p:cNvPicPr/>
          <p:nvPr/>
        </p:nvPicPr>
        <p:blipFill>
          <a:blip r:embed="rId1"/>
          <a:stretch/>
        </p:blipFill>
        <p:spPr>
          <a:xfrm>
            <a:off x="1523880" y="3581280"/>
            <a:ext cx="3329280" cy="3119400"/>
          </a:xfrm>
          <a:prstGeom prst="rect">
            <a:avLst/>
          </a:prstGeom>
          <a:ln w="0">
            <a:noFill/>
          </a:ln>
        </p:spPr>
      </p:pic>
      <p:pic>
        <p:nvPicPr>
          <p:cNvPr id="621" name="Picture 2" descr=""/>
          <p:cNvPicPr/>
          <p:nvPr/>
        </p:nvPicPr>
        <p:blipFill>
          <a:blip r:embed="rId2"/>
          <a:stretch/>
        </p:blipFill>
        <p:spPr>
          <a:xfrm>
            <a:off x="5486400" y="3578400"/>
            <a:ext cx="2413080" cy="327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there a single site where a lesion could produce all of the motor and sensory symptoms described in this ca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upper trunk of the brachial plexus.  Injuries to the superior trunk of the plexus is apparent by the characteristic position of the limb in the waiter’s tip position.  An injury to the upper trunk of the brachial plexus would affect the musculocutaneous nerve, the radial nerve, and the axillary nerve.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25" name="Picture 2" descr=""/>
          <p:cNvPicPr/>
          <p:nvPr/>
        </p:nvPicPr>
        <p:blipFill>
          <a:blip r:embed="rId1"/>
          <a:stretch/>
        </p:blipFill>
        <p:spPr>
          <a:xfrm>
            <a:off x="1149480" y="0"/>
            <a:ext cx="6699240" cy="674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6:24:47Z</dcterms:created>
  <dc:creator>katie</dc:creator>
  <dc:description/>
  <dc:language>en-US</dc:language>
  <cp:lastModifiedBy>katie</cp:lastModifiedBy>
  <dcterms:modified xsi:type="dcterms:W3CDTF">2007-11-26T18:11:17Z</dcterms:modified>
  <cp:revision>12</cp:revision>
  <dc:subject/>
  <dc:title>Upper Limb Case 3</dc:title>
</cp:coreProperties>
</file>